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866-98EA-4CB6-8B17-BBAA40EA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180-DBDD-41E3-9ED5-6C07FEC7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881-BAD3-4EA1-A2A3-40BE5107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C34-7C8E-4B42-AF5A-203C6D5B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793E-4C74-4BF3-BEC3-EC374062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1BAA-E5E2-4077-9D7B-FC751A26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688A-7C34-4901-B05F-579C5AD5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6E67-FBA2-4BB9-A863-6C9E0AB2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6C85-0B4C-49E8-BF5B-2FDE188F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176C-31F4-4D01-93CD-9A5ACA99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0425-32B9-4601-8501-68D593E3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B82-625D-4E2F-9B4B-DE1FC801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A61C-A1C4-4C8E-BCEF-651C62D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893D-4C33-405A-9245-3CFDCFD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7976-A9EC-4B80-B652-C5B3A25D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E293-23BB-47BA-B120-36921810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48B2-5137-49C4-B9F2-383994B1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099-A9D8-45D7-ABED-200962B5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323-8F0A-4649-8D7C-EF0BAD7B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F51-FC9E-4B94-A5F8-5FE247F1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853-140A-4D4C-9402-32E8FC75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708-1363-48EE-8738-45B54669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B71-4853-432C-97C4-6D82BE8B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47E-EC21-49F9-8994-ED44922E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165D-4E4B-47EF-94F3-EB4C4E672A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7BAB-76EB-4BEF-ADB2-169835A9DB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1120" y="40428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 демо версии для всех разделов представлена презентация для раздела 1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 полной версии для каждого раздела своя презентац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4794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1. 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ИЗМЕРЕНИЯ ФИЗИЧЕСКИХ ВЕЛИЧ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98A-3721-4A75-98C7-6D19A5D23682}" type="slidenum">
              <a:t>1</a:t>
            </a:fld>
          </a:p>
        </p:txBody>
      </p:sp>
    </p:spTree>
  </p:cSld>
  <p:transition advTm="1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367920"/>
            <a:ext cx="80755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мма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ух векторов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это вектор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ьи компоненты определяются как сумма компонент слагаем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90800" y="800280"/>
            <a:ext cx="156240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814400" y="1916280"/>
            <a:ext cx="551520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303640" y="2600280"/>
            <a:ext cx="452412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B1C-E372-4523-89D5-994686F3E7E1}" type="slidenum">
              <a:t>10</a:t>
            </a:fld>
          </a:p>
        </p:txBody>
      </p:sp>
    </p:spTree>
  </p:cSld>
  <p:transition advTm="1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000" y="87300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диничный векто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это вектор с длиной, равной единиц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р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единичные векторы вдоль положительных направлений осей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0x, у, 0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стемы координ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24360" y="1628640"/>
          <a:ext cx="1295280" cy="6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628640"/>
                    <a:ext cx="1295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9280" y="3679920"/>
          <a:ext cx="1209600" cy="64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9280" y="3679920"/>
                    <a:ext cx="12096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29B-D110-40BC-B075-99FFAFC8D2E2}" type="slidenum">
              <a:t>11</a:t>
            </a:fld>
          </a:p>
        </p:txBody>
      </p:sp>
    </p:spTree>
  </p:cSld>
  <p:transition advTm="1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Разложение вектора вдоль координатных осей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878120" y="1779480"/>
            <a:ext cx="5357880" cy="39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364-56F7-47C3-8DB0-E9C5E45D0131}" type="slidenum">
              <a:t>12</a:t>
            </a:fld>
          </a:p>
        </p:txBody>
      </p:sp>
    </p:spTree>
  </p:cSld>
  <p:transition advTm="1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калярное произведе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вух векторов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это число, равное сумме произведений компон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708280" y="1268280"/>
          <a:ext cx="377172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8280" y="1268280"/>
                    <a:ext cx="37717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340000" y="2421000"/>
            <a:ext cx="452448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44E-D0CE-458E-BF35-945A258C09E4}" type="slidenum">
              <a:t>13</a:t>
            </a:fld>
          </a:p>
        </p:txBody>
      </p:sp>
    </p:spTree>
  </p:cSld>
  <p:transition advTm="1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екторное произведе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вух векторов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это вектор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чьи компоненты рав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авило буравчика для определения направления векторного произве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56000" y="2446200"/>
            <a:ext cx="4211640" cy="306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3851280" y="1125360"/>
          <a:ext cx="183348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1125360"/>
                    <a:ext cx="183348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762-18B6-4A91-B2EA-358BBCC4B2EB}" type="slidenum">
              <a:t>14</a:t>
            </a:fld>
          </a:p>
        </p:txBody>
      </p:sp>
    </p:spTree>
  </p:cSld>
  <p:transition advTm="1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1.1. О разнице вопросов «как?» и «почему?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стествозна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комплекс экспериментальных наук, в основе которых лежат наиболее общие закономерности, изучаемые физи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5F1-7DA4-4F63-96D0-7E44702D4A43}" type="slidenum">
              <a:t>2</a:t>
            </a:fld>
          </a:p>
        </p:txBody>
      </p:sp>
    </p:spTree>
  </p:cSld>
  <p:transition advTm="1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1.2. Единицы измер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881000"/>
            <a:ext cx="822960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новные единицы измере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единицы измерения, выбранные произволь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изводные единиц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мере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единицы измерения, которые выводятся из основных и дополнительных с помощью физических законов и определ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стема единиц измере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совокупность основных, дополнительных и производных единиц измер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414-58A1-4555-99BA-778F66701D60}" type="slidenum">
              <a:t>3</a:t>
            </a:fld>
          </a:p>
        </p:txBody>
      </p:sp>
    </p:spTree>
  </p:cSld>
  <p:transition advTm="1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ространственные масштабы в природе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66840" y="1893960"/>
            <a:ext cx="4810320" cy="35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1C4-AE02-4325-8EE2-583BF770B2DB}" type="slidenum">
              <a:t>4</a:t>
            </a:fld>
          </a:p>
        </p:txBody>
      </p:sp>
    </p:spTree>
  </p:cSld>
  <p:transition advTm="1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Временные интервалы в природе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62160" y="1736640"/>
            <a:ext cx="481968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88D-5EE1-4BBE-9A68-F05368B808EB}" type="slidenum">
              <a:t>5</a:t>
            </a:fld>
          </a:p>
        </p:txBody>
      </p:sp>
    </p:spTree>
  </p:cSld>
  <p:transition advTm="1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1.3. Анализ размерносте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81000"/>
            <a:ext cx="822960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мерна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еличи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величина, численное значение которой зависит от выбора системы единиц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езразмерна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еличи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величина, значение которой сохраняется неизменным при любом выборе системы единиц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авило размер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е части любого равенства должны иметь одинаковые размер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B5D-79CA-4249-A379-CA5665C2548A}" type="slidenum">
              <a:t>6</a:t>
            </a:fld>
          </a:p>
        </p:txBody>
      </p:sp>
    </p:spTree>
  </p:cSld>
  <p:transition advTm="1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1.4. Система отсчет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881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ла отсчет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тела, которые выбраны для определения положений всех остальных объектов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843280" y="2816280"/>
            <a:ext cx="3444840" cy="35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FC5-43C6-484B-BD74-52E60D74A6A2}" type="slidenum">
              <a:t>7</a:t>
            </a:fld>
          </a:p>
        </p:txBody>
      </p:sp>
    </p:spTree>
  </p:cSld>
  <p:transition advTm="1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94284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стема отсчет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тело отсчета, снабженное системой координат и час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2720" y="2382840"/>
            <a:ext cx="4895640" cy="310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312-71C2-4B43-8524-EDD9AD881866}" type="slidenum">
              <a:t>8</a:t>
            </a:fld>
          </a:p>
        </p:txBody>
      </p:sp>
    </p:spTree>
  </p:cSld>
  <p:transition advTm="1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1.5. Алгебра векторов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ина вектор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или его модуль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чис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изведение вектор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числ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является вектор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мпоненты которого определяются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1595520"/>
            <a:ext cx="360" cy="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833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071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233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462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262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43280" y="2457360"/>
            <a:ext cx="3390840" cy="657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886200" y="3824280"/>
            <a:ext cx="1371600" cy="561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347920" y="5046840"/>
            <a:ext cx="444816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4B7-E646-40B4-B958-FF7CB7EC8B42}" type="slidenum">
              <a:t>9</a:t>
            </a:fld>
          </a:p>
        </p:txBody>
      </p:sp>
    </p:spTree>
  </p:cSld>
  <p:transition advTm="1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01:13Z</dcterms:created>
  <dc:creator>En_Veden</dc:creator>
  <dc:description/>
  <dc:language>en-US</dc:language>
  <cp:lastModifiedBy>Эдик</cp:lastModifiedBy>
  <dcterms:modified xsi:type="dcterms:W3CDTF">2008-02-15T16:30:36Z</dcterms:modified>
  <cp:revision>57</cp:revision>
  <dc:subject/>
  <dc:title>Заголовок 1</dc:title>
</cp:coreProperties>
</file>